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D13-C512-446F-9CE9-96F79313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863-830E-4DEC-853C-77316850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AD0-404D-4A79-AA61-8E2306E8B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061-1BA9-4BBB-AEC1-B998731F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9A42-9B37-4AE4-88EA-BE861E83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0188-5DCF-4ED3-AEE5-C25F1E51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B287-7797-4E80-A844-2AB995A0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8501-4D24-4849-97FE-207886BB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02DB-4CDA-4604-A7C4-539BE5B4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C2DA-8345-4213-A9BA-50865A2D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6A49-AF86-460A-A1D2-58314E74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E151-3E33-41C8-8A10-B5FD8F99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1276-2FE9-4D41-ABA1-07D16617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FBB9-4922-4E3B-A1D9-5104547A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C00E-1F74-4374-AAD3-9A6FE8E2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3553-097D-4396-B88B-C1FC2879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894A-5AB3-4DCA-A3FB-A0325E47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0B8-4F6D-436D-8DED-4007B569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99B-19BC-4462-BAC0-0F900E96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31A9-6944-4745-BC75-70D5C51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120-39F0-4537-879A-17671036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DE3-E954-4F71-9F2C-8C082958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E00-19B6-4938-B7DD-D8BDC1A7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CF7E-1723-4780-8B6D-8F61FD4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3F32-DAB3-4237-A5E3-D79C23DB2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E10-70A1-4945-9513-A4938808E9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260280"/>
            <a:ext cx="8305920" cy="659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3960" y="2286000"/>
            <a:ext cx="6024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 Hazard Identification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ty Meetings, including attend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ty Performance 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Over 130 different report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Pay as you go licensing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obust!  Able to handle in excess of 1,000,000 </a:t>
            </a:r>
            <a:br>
              <a:rPr sz="2400"/>
            </a:b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records in a single tabl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lso track and report on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638680" cy="4478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866920" y="1752120"/>
            <a:ext cx="2971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yst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ystical"/>
              </a:rPr>
              <a:t>Flexi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yst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ystical"/>
              </a:rPr>
              <a:t>Afford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Myst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Mystical"/>
              </a:rPr>
              <a:t>Easy to 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Myst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stical"/>
              </a:rPr>
              <a:t>Features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ystic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stical"/>
              </a:rPr>
              <a:t>Graphical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Mystical"/>
              </a:rPr>
              <a:t>On-Line Help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Mystic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5867280" cy="4659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5520" y="990720"/>
            <a:ext cx="3048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menu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mploy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pplic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rug Scre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cid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CB Co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fety Meet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zard Ident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fet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formanc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600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ce"/>
              </a:rPr>
              <a:t>Use your own Country Specific Terminolog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2209680"/>
          <a:ext cx="388620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88620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219320" y="3048120"/>
          <a:ext cx="39574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048120"/>
                    <a:ext cx="39574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5486400" y="243828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rminology for Postal / Zip codes, Social Insurance or Social Security, and related formats, are all based on the provinces, states or prefectures us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4114800"/>
          <a:ext cx="4424400" cy="603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114800"/>
                    <a:ext cx="44244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914400" y="4724280"/>
          <a:ext cx="4386240" cy="62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4724280"/>
                    <a:ext cx="43862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295280"/>
            <a:ext cx="8305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France"/>
              </a:rPr>
              <a:t>Advanced Criteria Selection,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France"/>
              </a:rPr>
              <a:t>allows you to query on almost any field!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04920" y="2133720"/>
          <a:ext cx="5867280" cy="37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586728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952880" y="2971800"/>
          <a:ext cx="3462480" cy="14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971800"/>
                    <a:ext cx="346248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324480" y="2286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 Criteria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410080" y="4114800"/>
          <a:ext cx="342900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4114800"/>
                    <a:ext cx="34290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248520" y="56386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Load commonly used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219320"/>
          <a:ext cx="66294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6294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934320" y="1219320"/>
            <a:ext cx="2209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hensive Employee and Applicant tracking, including photographs, drug screening, next of kin, and an area where YOU define what YOU want to trac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52280" y="1219320"/>
          <a:ext cx="655344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19320"/>
                    <a:ext cx="655344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781680" y="1219320"/>
            <a:ext cx="236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rehensive incident tracking, including follow up, crew involved, statistical injury information, modified work information and the ability to track multiple claims on one inciden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095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, you define your own statistics, incident types and mor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371600"/>
          <a:ext cx="609588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609588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324480" y="1371600"/>
            <a:ext cx="2514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 WCB costs with each individual statement, in a flexible and simple to use for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even have the ability to define your own Cost Typ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685800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rance"/>
              </a:rPr>
              <a:t>Personnel Plus Safety System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France"/>
              </a:rPr>
              <a:t>From Hemmingway Technologies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12193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lso track and report on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2133720"/>
            <a:ext cx="71629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Schedu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Required and Training Defici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ning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loyee Appraisals, and upcoming apprai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ug Screening 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te random test lists, by specific crite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6T23:55:31Z</dcterms:created>
  <dc:creator>Richard W. Collens</dc:creator>
  <dc:description/>
  <dc:language>en-US</dc:language>
  <cp:lastModifiedBy>OzGrid.com</cp:lastModifiedBy>
  <dcterms:modified xsi:type="dcterms:W3CDTF">2002-11-26T03:52:52Z</dcterms:modified>
  <cp:revision>5</cp:revision>
  <dc:subject/>
  <dc:title>Personnel Plus Safety System</dc:title>
</cp:coreProperties>
</file>